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wmf" ContentType="image/x-wmf"/>
  <Override PartName="/ppt/media/image26.wmf" ContentType="image/x-wmf"/>
  <Override PartName="/ppt/media/image24.jpeg" ContentType="image/jpeg"/>
  <Override PartName="/ppt/media/image25.wmf" ContentType="image/x-wmf"/>
  <Override PartName="/ppt/media/image23.jpeg" ContentType="image/jpeg"/>
  <Override PartName="/ppt/media/image9.png" ContentType="image/png"/>
  <Override PartName="/ppt/media/image34.png" ContentType="image/png"/>
  <Override PartName="/ppt/media/image8.jpeg" ContentType="image/jpeg"/>
  <Override PartName="/ppt/media/image2.png" ContentType="image/png"/>
  <Override PartName="/ppt/media/image4.jpeg" ContentType="image/jpeg"/>
  <Override PartName="/ppt/media/image10.wmf" ContentType="image/x-wmf"/>
  <Override PartName="/ppt/media/image32.wmf" ContentType="image/x-wmf"/>
  <Override PartName="/ppt/media/image22.wmf" ContentType="image/x-wmf"/>
  <Override PartName="/ppt/media/image20.jpeg" ContentType="image/jpeg"/>
  <Override PartName="/ppt/media/image29.jpeg" ContentType="image/jpeg"/>
  <Override PartName="/ppt/media/image33.wmf" ContentType="image/x-wmf"/>
  <Override PartName="/ppt/media/image37.jpeg" ContentType="image/jpeg"/>
  <Override PartName="/ppt/media/image35.png" ContentType="image/png"/>
  <Override PartName="/ppt/media/image31.wmf" ContentType="image/x-wmf"/>
  <Override PartName="/ppt/media/image6.wmf" ContentType="image/x-wmf"/>
  <Override PartName="/ppt/media/image19.jpeg" ContentType="image/jpeg"/>
  <Override PartName="/ppt/media/image36.jpeg" ContentType="image/jpeg"/>
  <Override PartName="/ppt/media/image12.wmf" ContentType="image/x-wmf"/>
  <Override PartName="/ppt/media/image7.wmf" ContentType="image/x-wmf"/>
  <Override PartName="/ppt/media/image30.jpeg" ContentType="image/jpeg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1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8.jpeg" ContentType="image/jpeg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4630-91F9-4A11-9C62-CFEB80DCEDF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C30D-81FE-4D97-88C7-2C4CD8B1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CCD8-8B1F-471F-B073-CB5E63F8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5981-0D90-437D-8AEA-B368FFE1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0F7E-96FE-4FE3-A830-728896946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1F22-3DEE-4512-AB1A-6481AC48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40C3-67B8-4341-81CD-A4112B92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7854-648A-484B-B4E6-85B49A65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59DB-A3C5-4BC8-9445-728B208D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6EDA-CB5E-4AF3-9879-C56CE99D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FBC4-D9D0-4509-89CD-7AF79B31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88B6-2BB6-4B36-A32A-EA84671C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B120-321E-4498-8CCF-090533CE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9276-4CB6-43F2-8268-C6ED118CC126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AC51-44AD-434A-BF51-912BAA29616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ucineencasa.com/images/idiomas.jpg&amp;imgrefurl=http://foro.univision.com/t5/Amarte-es-mi-Pecado/CUANTOS-CUALES-IDIOMAS-HABLAN/m-p/45072683&amp;usg=__qSd4E8mmojl3GAnI_n3IpUGThV8=&amp;h=442&amp;w=479&amp;sz=26&amp;hl=es&amp;start=10&amp;zoom=1&amp;tbnid=nVrPPoPgBDnUvM:&amp;tbnh=119&amp;tbnw=129&amp;prev=/images?q=hablo+idiomas&amp;hl=es&amp;sa=G&amp;gbv=2&amp;tbs=isch:1&amp;itbs=1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juntadeandalucia.es/educacion/pasen/" TargetMode="External"/><Relationship Id="rId2" Type="http://schemas.openxmlformats.org/officeDocument/2006/relationships/hyperlink" Target="https://www.juntadeandalucia.es/educacion/pasen/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 Imagen" descr="edificio diego salinas.jpg"/>
          <p:cNvPicPr/>
          <p:nvPr/>
        </p:nvPicPr>
        <p:blipFill>
          <a:blip r:embed="rId1"/>
          <a:stretch/>
        </p:blipFill>
        <p:spPr>
          <a:xfrm>
            <a:off x="5931000" y="3352680"/>
            <a:ext cx="2536560" cy="3108600"/>
          </a:xfrm>
          <a:prstGeom prst="rect">
            <a:avLst/>
          </a:prstGeom>
          <a:ln w="0">
            <a:noFill/>
          </a:ln>
        </p:spPr>
      </p:pic>
      <p:sp>
        <p:nvSpPr>
          <p:cNvPr id="49" name="2 CuadroTexto"/>
          <p:cNvSpPr/>
          <p:nvPr/>
        </p:nvSpPr>
        <p:spPr>
          <a:xfrm>
            <a:off x="595800" y="428760"/>
            <a:ext cx="534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SCUELA OFICIAL DE IDIO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 SAN R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jerry\AppData\Local\Microsoft\Windows\Temporary Internet Files\Low\Content.IE5\S94REMSL\eoi-logoF3[1].png"/>
          <p:cNvPicPr/>
          <p:nvPr/>
        </p:nvPicPr>
        <p:blipFill>
          <a:blip r:embed="rId2"/>
          <a:stretch/>
        </p:blipFill>
        <p:spPr>
          <a:xfrm>
            <a:off x="971640" y="1557360"/>
            <a:ext cx="3960720" cy="4175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684360" y="5877000"/>
            <a:ext cx="4897440" cy="398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f7f7f"/>
                </a:solidFill>
                <a:latin typeface="Comic Sans MS"/>
              </a:rPr>
              <a:t>22 años en el Campo de Gibral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ttp://t3.gstatic.com/images?q=tbn:ANd9GcTKtQzYSJhM7DPJsAJI7-4CCUgbgV7_-6VX-dNgq_0eUYv1ux0&amp;t=1&amp;usg=__OkOczzjscZ6YbY7pvoenaBuZP_0="/>
          <p:cNvPicPr/>
          <p:nvPr/>
        </p:nvPicPr>
        <p:blipFill>
          <a:blip r:embed="rId3"/>
          <a:stretch/>
        </p:blipFill>
        <p:spPr>
          <a:xfrm>
            <a:off x="5796000" y="1052640"/>
            <a:ext cx="2735280" cy="204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onsejos para ser un buen alum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1280" y="1700280"/>
            <a:ext cx="792144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898989"/>
                </a:solidFill>
                <a:uFillTx/>
                <a:latin typeface="Arial"/>
                <a:ea typeface="Arial"/>
              </a:rPr>
              <a:t>Estudiar un idioma es un proceso</a:t>
            </a:r>
            <a:r>
              <a:rPr b="0" lang="es-ES" sz="1800" spc="-1" strike="noStrike">
                <a:solidFill>
                  <a:srgbClr val="898989"/>
                </a:solidFill>
                <a:latin typeface="Arial"/>
                <a:ea typeface="Arial"/>
              </a:rPr>
              <a:t>: 4,5 horas de clase exclusivamente a la semana no son suficientes para sumergirse en otra lengua/cultur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98989"/>
                </a:solidFill>
                <a:latin typeface="Arial"/>
                <a:ea typeface="Arial"/>
              </a:rPr>
              <a:t>Por esto debes </a:t>
            </a:r>
            <a:r>
              <a:rPr b="0" lang="es-ES" sz="1800" spc="-1" strike="noStrike" u="sng">
                <a:solidFill>
                  <a:srgbClr val="898989"/>
                </a:solidFill>
                <a:uFillTx/>
                <a:latin typeface="Arial"/>
                <a:ea typeface="Arial"/>
              </a:rPr>
              <a:t>estudiar cada dí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98989"/>
                </a:solidFill>
                <a:latin typeface="Arial"/>
                <a:ea typeface="Arial"/>
              </a:rPr>
              <a:t>Para dominar el idioma como usuario de nivel avanzado el alumno debería invertir 2600 horas en 5 añ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98989"/>
                </a:solidFill>
                <a:latin typeface="Arial"/>
                <a:ea typeface="Arial"/>
              </a:rPr>
              <a:t>En la Escuela recibirás en ese tiempo 600 hor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98989"/>
                </a:solidFill>
                <a:latin typeface="Arial"/>
                <a:ea typeface="Arial"/>
              </a:rPr>
              <a:t>1.- </a:t>
            </a:r>
            <a:r>
              <a:rPr b="0" lang="es-ES" sz="1800" spc="-1" strike="noStrike" u="sng">
                <a:solidFill>
                  <a:srgbClr val="898989"/>
                </a:solidFill>
                <a:uFillTx/>
                <a:latin typeface="Arial"/>
                <a:ea typeface="Arial"/>
              </a:rPr>
              <a:t>Distribuye tu tiempo de estudio:</a:t>
            </a:r>
            <a:r>
              <a:rPr b="0" lang="es-ES" sz="1800" spc="-1" strike="noStrike">
                <a:solidFill>
                  <a:srgbClr val="898989"/>
                </a:solidFill>
                <a:latin typeface="Arial"/>
                <a:ea typeface="Arial"/>
              </a:rPr>
              <a:t> 15 a 30 minutos a lo largo del día. Practica las diferentes tareas: hablar, escuchar, escribir, le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0" lang="es-ES" sz="1800" spc="-1" strike="noStrike">
                <a:solidFill>
                  <a:srgbClr val="898989"/>
                </a:solidFill>
                <a:latin typeface="Arial"/>
                <a:ea typeface="Arial"/>
              </a:rPr>
              <a:t>.- </a:t>
            </a:r>
            <a:r>
              <a:rPr b="0" lang="es-ES" sz="1800" spc="-1" strike="noStrike" u="sng">
                <a:solidFill>
                  <a:srgbClr val="898989"/>
                </a:solidFill>
                <a:uFillTx/>
                <a:latin typeface="Arial"/>
                <a:ea typeface="Arial"/>
              </a:rPr>
              <a:t>Participa en clase</a:t>
            </a:r>
            <a:r>
              <a:rPr b="0" lang="es-ES" sz="1800" spc="-1" strike="noStrike">
                <a:solidFill>
                  <a:srgbClr val="898989"/>
                </a:solidFill>
                <a:latin typeface="Arial"/>
                <a:ea typeface="Arial"/>
              </a:rPr>
              <a:t>: es la mejor oportunidad para hablar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9898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0" descr="MC900415486[1]"/>
          <p:cNvPicPr/>
          <p:nvPr/>
        </p:nvPicPr>
        <p:blipFill>
          <a:blip r:embed="rId1"/>
          <a:stretch/>
        </p:blipFill>
        <p:spPr>
          <a:xfrm>
            <a:off x="3635280" y="5157720"/>
            <a:ext cx="18748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onsejos para ser un buen alum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68360" y="1557000"/>
            <a:ext cx="813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98989"/>
                </a:solidFill>
                <a:latin typeface="Arial"/>
                <a:ea typeface="Arial"/>
              </a:rPr>
              <a:t>3.- </a:t>
            </a:r>
            <a:r>
              <a:rPr b="0" lang="es-ES" sz="2000" spc="-1" strike="noStrike" u="sng">
                <a:solidFill>
                  <a:srgbClr val="898989"/>
                </a:solidFill>
                <a:uFillTx/>
                <a:latin typeface="Arial"/>
                <a:ea typeface="Arial"/>
              </a:rPr>
              <a:t>Conoce a tus compañeros </a:t>
            </a:r>
            <a:r>
              <a:rPr b="0" lang="es-ES" sz="2000" spc="-1" strike="noStrike">
                <a:solidFill>
                  <a:srgbClr val="898989"/>
                </a:solidFill>
                <a:latin typeface="Arial"/>
                <a:ea typeface="Arial"/>
              </a:rPr>
              <a:t>y relaciónate con ellos : te sentirás entre amigos y perderás el miedo a expresarte en otro idiom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98989"/>
                </a:solidFill>
                <a:latin typeface="Arial"/>
                <a:ea typeface="Arial"/>
              </a:rPr>
              <a:t>4.- Mantén una </a:t>
            </a:r>
            <a:r>
              <a:rPr b="0" lang="es-ES" sz="2000" spc="-1" strike="noStrike" u="sng">
                <a:solidFill>
                  <a:srgbClr val="898989"/>
                </a:solidFill>
                <a:uFillTx/>
                <a:latin typeface="Arial"/>
                <a:ea typeface="Arial"/>
              </a:rPr>
              <a:t>actitud posit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98989"/>
                </a:solidFill>
                <a:latin typeface="Arial"/>
                <a:ea typeface="Arial"/>
              </a:rPr>
              <a:t>5.- </a:t>
            </a:r>
            <a:r>
              <a:rPr b="0" lang="es-ES" sz="2000" spc="-1" strike="noStrike" u="sng">
                <a:solidFill>
                  <a:srgbClr val="898989"/>
                </a:solidFill>
                <a:uFillTx/>
                <a:latin typeface="Arial"/>
                <a:ea typeface="Arial"/>
              </a:rPr>
              <a:t>Pide ayuda </a:t>
            </a:r>
            <a:r>
              <a:rPr b="0" lang="es-ES" sz="2000" spc="-1" strike="noStrike">
                <a:solidFill>
                  <a:srgbClr val="898989"/>
                </a:solidFill>
                <a:latin typeface="Arial"/>
                <a:ea typeface="Arial"/>
              </a:rPr>
              <a:t>si la necesitas a tu profesor y compañeros. Forma grupo de estudios con tus compañe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98989"/>
                </a:solidFill>
                <a:latin typeface="Arial"/>
                <a:ea typeface="Arial"/>
              </a:rPr>
              <a:t>6- Concepto: </a:t>
            </a:r>
            <a:r>
              <a:rPr b="0" lang="es-ES" sz="2000" spc="-1" strike="noStrike" u="sng">
                <a:solidFill>
                  <a:srgbClr val="898989"/>
                </a:solidFill>
                <a:uFillTx/>
                <a:latin typeface="Arial"/>
                <a:ea typeface="Arial"/>
              </a:rPr>
              <a:t>Aprende a aprender</a:t>
            </a:r>
            <a:r>
              <a:rPr b="0" lang="es-ES" sz="2000" spc="-1" strike="noStrike">
                <a:solidFill>
                  <a:srgbClr val="898989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98989"/>
                </a:solidFill>
                <a:latin typeface="Arial"/>
                <a:ea typeface="Arial"/>
              </a:rPr>
              <a:t>a) determina lo que necesitas aprender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98989"/>
                </a:solidFill>
                <a:latin typeface="Arial"/>
                <a:ea typeface="Arial"/>
              </a:rPr>
              <a:t>b) fija tus propios objetivo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98989"/>
                </a:solidFill>
                <a:latin typeface="Arial"/>
                <a:ea typeface="Arial"/>
              </a:rPr>
              <a:t>c) marca un ritmo de trabajo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98989"/>
                </a:solidFill>
                <a:latin typeface="Arial"/>
                <a:ea typeface="Arial"/>
              </a:rPr>
              <a:t>d) revisa tu progreso comprobando lo que sabes y lo que pretendes aprender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98989"/>
                </a:solidFill>
                <a:latin typeface="Arial"/>
                <a:ea typeface="Arial"/>
              </a:rPr>
              <a:t>e) busca ocasiones para utilizar la lengu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98989"/>
                </a:solidFill>
                <a:latin typeface="Arial"/>
                <a:ea typeface="Arial"/>
              </a:rPr>
              <a:t>f) no temas cometer errore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98989"/>
                </a:solidFill>
                <a:latin typeface="Arial"/>
                <a:ea typeface="Arial"/>
              </a:rPr>
              <a:t>g) busca estrategias de aprendizaje y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98989"/>
                </a:solidFill>
                <a:latin typeface="Arial"/>
                <a:ea typeface="Arial"/>
              </a:rPr>
              <a:t>h) aunque te bloquees, no te angus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98989"/>
                </a:solidFill>
                <a:latin typeface="Arial"/>
                <a:ea typeface="Arial"/>
              </a:rPr>
              <a:t>7- Procura no faltar a clase y practicar fuera del au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MC900286456[1]"/>
          <p:cNvPicPr/>
          <p:nvPr/>
        </p:nvPicPr>
        <p:blipFill>
          <a:blip r:embed="rId1"/>
          <a:stretch/>
        </p:blipFill>
        <p:spPr>
          <a:xfrm>
            <a:off x="7596360" y="4653000"/>
            <a:ext cx="1082520" cy="1376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MP900401069[1]"/>
          <p:cNvPicPr/>
          <p:nvPr/>
        </p:nvPicPr>
        <p:blipFill>
          <a:blip r:embed="rId2"/>
          <a:stretch/>
        </p:blipFill>
        <p:spPr>
          <a:xfrm>
            <a:off x="468360" y="2781360"/>
            <a:ext cx="1401840" cy="14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SCUELA OFICIAL DE IDIOMAS DE SAN ROQUE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¿qué más debes sab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Fotocopias: 7 € incluido servicio SMS  o PA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Becas: descargar impreso e informarse en www.mec.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Delegad@: elección 4 al 7 de octubre (datos de compañer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Nueva Página Web </a:t>
            </a:r>
            <a:r>
              <a:rPr b="0" lang="es-ES" sz="2400" spc="-1" strike="noStrike">
                <a:solidFill>
                  <a:srgbClr val="00b0f0"/>
                </a:solidFill>
                <a:latin typeface="Calibri"/>
              </a:rPr>
              <a:t>www.eoisanroque.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Correo electrónico: </a:t>
            </a: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eoisanroque.averroes@juntadeandalucia.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Wiki del profesor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ico1-eoisanroque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Programa Tandem (noviembr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Biblioteca: proyecto y próximo apertu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4 Imagen" descr="NICOLAS.jpg"/>
          <p:cNvPicPr/>
          <p:nvPr/>
        </p:nvPicPr>
        <p:blipFill>
          <a:blip r:embed="rId1"/>
          <a:stretch/>
        </p:blipFill>
        <p:spPr>
          <a:xfrm>
            <a:off x="6084720" y="4221000"/>
            <a:ext cx="1079640" cy="79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MC900233874[1]"/>
          <p:cNvPicPr/>
          <p:nvPr/>
        </p:nvPicPr>
        <p:blipFill>
          <a:blip r:embed="rId2"/>
          <a:stretch/>
        </p:blipFill>
        <p:spPr>
          <a:xfrm>
            <a:off x="6948360" y="907920"/>
            <a:ext cx="14400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SCUELA OFICIAL DE IDIOMAS DE SAN ROQUE</a:t>
            </a:r>
            <a:br>
              <a:rPr sz="3200"/>
            </a:b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sociación de Alumn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2637000"/>
            <a:ext cx="77868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Nueva direc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Presidente: José Francisco Muño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Vicepresidente: José Carlos Núñe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Próxima presentación de la Asociación en las aula por parte de los miembros de esta nueva direc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Contacto: aaeoisanroque@hot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Propuesta de diversas activ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Cuota Socio: 3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7" descr="MC900297567[1]"/>
          <p:cNvPicPr/>
          <p:nvPr/>
        </p:nvPicPr>
        <p:blipFill>
          <a:blip r:embed="rId1"/>
          <a:stretch/>
        </p:blipFill>
        <p:spPr>
          <a:xfrm>
            <a:off x="5796000" y="2349360"/>
            <a:ext cx="2663640" cy="13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0092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ctividades cultura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6760" y="1285560"/>
            <a:ext cx="8102520" cy="41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Fiesta de cada Departam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Viajes culturales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Teatr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con tu participación aprendes, mejoras tu comunicació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te diviertes, conoces a otros compañeros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6" descr="Moving On - 10 marzo 2010 029"/>
          <p:cNvPicPr/>
          <p:nvPr/>
        </p:nvPicPr>
        <p:blipFill>
          <a:blip r:embed="rId1"/>
          <a:stretch/>
        </p:blipFill>
        <p:spPr>
          <a:xfrm>
            <a:off x="6084720" y="1125360"/>
            <a:ext cx="2411640" cy="1608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MARZO 2010 - BRISTOL-BATH-STRATFORD-WARWICK CASTLE 152"/>
          <p:cNvPicPr/>
          <p:nvPr/>
        </p:nvPicPr>
        <p:blipFill>
          <a:blip r:embed="rId2"/>
          <a:stretch/>
        </p:blipFill>
        <p:spPr>
          <a:xfrm>
            <a:off x="2195640" y="3860640"/>
            <a:ext cx="404316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Visita al Parlamento Europe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Concedida Visita Becada al Parlamento con sede en Brusel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Beca de 235 Euros por asist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Día de la Visita 18 Noviemb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Viaje a Bruselas-Luxemburgo-Maastricht del 17 al 20 de Noviembre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Alumnos interesados pasar por Dirección o Jefatura de Estud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2008071012bruselas_bandera_europa_euro"/>
          <p:cNvPicPr/>
          <p:nvPr/>
        </p:nvPicPr>
        <p:blipFill>
          <a:blip r:embed="rId1"/>
          <a:stretch/>
        </p:blipFill>
        <p:spPr>
          <a:xfrm>
            <a:off x="250920" y="189000"/>
            <a:ext cx="1584360" cy="1266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1203003403509parlamento%20europeo%20bruselas%20dentrodn"/>
          <p:cNvPicPr/>
          <p:nvPr/>
        </p:nvPicPr>
        <p:blipFill>
          <a:blip r:embed="rId2"/>
          <a:stretch/>
        </p:blipFill>
        <p:spPr>
          <a:xfrm>
            <a:off x="6300720" y="2060640"/>
            <a:ext cx="2232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SCUELA OFICIAL DE IDIOMAS DE SAN RO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4360" y="1557000"/>
            <a:ext cx="720072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alendario del curso: septiembre-jun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Festivo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12 octubre (Hispanida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1 noviembre (Todos los Sant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6 y 8 diciembre (Constitución, Inmaculad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24 diciembre-10 enero (Navida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25-28 febrero  (Día de la Educación, Día de Andalucí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18-24 abril (Semana San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2 mayo (Fiesta del trabaj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Finales de mayo (fiesta loc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MC900347865[1]"/>
          <p:cNvPicPr/>
          <p:nvPr/>
        </p:nvPicPr>
        <p:blipFill>
          <a:blip r:embed="rId1"/>
          <a:stretch/>
        </p:blipFill>
        <p:spPr>
          <a:xfrm>
            <a:off x="6300720" y="2421000"/>
            <a:ext cx="1656000" cy="1160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MC900335903[1]"/>
          <p:cNvPicPr/>
          <p:nvPr/>
        </p:nvPicPr>
        <p:blipFill>
          <a:blip r:embed="rId2"/>
          <a:stretch/>
        </p:blipFill>
        <p:spPr>
          <a:xfrm>
            <a:off x="6877080" y="5157720"/>
            <a:ext cx="1449360" cy="15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SCUELA OFICIAL DE IDIOMAS DE SAN ROQUE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lendario del alumnad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11280" y="1844280"/>
            <a:ext cx="75470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Cambios de horario: hasta 30 de septiem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Becas: hasta 30 de septiem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Carné de estudiante: 15 octubre-15 noviem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Plazo extraordinario de matrícula: hasta 30 octu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Simultaneidad de matrícula: hasta 15 de febr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Preinscripción alumnos oficiales: 1-31 marz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Anulación de matrícula: hasta el 29 de abr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Matrícula libre: 15-30 abr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Preinscripción CAL: 1-30 may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Solicitud de título: 1 al 15 de octubre y del 1 al 15 de febr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Matrícula oficial: 1-10 julio y 1-8 septiem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1" descr="MC900351921[1]"/>
          <p:cNvPicPr/>
          <p:nvPr/>
        </p:nvPicPr>
        <p:blipFill>
          <a:blip r:embed="rId1"/>
          <a:stretch/>
        </p:blipFill>
        <p:spPr>
          <a:xfrm>
            <a:off x="6659640" y="1341360"/>
            <a:ext cx="1812960" cy="14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4 Imagen" descr="CUIDEMOS LA ESCUELA.png"/>
          <p:cNvPicPr/>
          <p:nvPr/>
        </p:nvPicPr>
        <p:blipFill>
          <a:blip r:embed="rId1"/>
          <a:stretch/>
        </p:blipFill>
        <p:spPr>
          <a:xfrm>
            <a:off x="5143680" y="4286160"/>
            <a:ext cx="3143160" cy="20480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SCUELA OFICIAL DE IDIOMAS DE SAN RO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un espacio de respe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compañeris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puntual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móviles apag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… </a:t>
            </a: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y a disfrutar aprendien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3 Imagen" descr="MOVIL APAGADO.bmp"/>
          <p:cNvPicPr/>
          <p:nvPr/>
        </p:nvPicPr>
        <p:blipFill>
          <a:blip r:embed="rId2"/>
          <a:stretch/>
        </p:blipFill>
        <p:spPr>
          <a:xfrm>
            <a:off x="5572080" y="17146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Forges+idiomas"/>
          <p:cNvPicPr/>
          <p:nvPr/>
        </p:nvPicPr>
        <p:blipFill>
          <a:blip r:embed="rId3"/>
          <a:stretch/>
        </p:blipFill>
        <p:spPr>
          <a:xfrm>
            <a:off x="468360" y="4437000"/>
            <a:ext cx="3809880" cy="2062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Aprendiendo%20idiomas"/>
          <p:cNvPicPr/>
          <p:nvPr/>
        </p:nvPicPr>
        <p:blipFill>
          <a:blip r:embed="rId4"/>
          <a:stretch/>
        </p:blipFill>
        <p:spPr>
          <a:xfrm>
            <a:off x="468360" y="4292640"/>
            <a:ext cx="381636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SCUELA OFICIAL DE IDIOMAS DE SAN ROQUE</a:t>
            </a:r>
            <a:br>
              <a:rPr sz="40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- INGLÉS </a:t>
            </a: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	</a:t>
            </a:r>
            <a:br>
              <a:rPr sz="2400"/>
            </a:b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- FRANCÉS</a:t>
            </a:r>
            <a:br>
              <a:rPr sz="2400"/>
            </a:b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- ALEMÁN</a:t>
            </a: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	</a:t>
            </a:r>
            <a:br>
              <a:rPr sz="2400"/>
            </a:b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- ESPAÑOL PARA EXTRANJEROS</a:t>
            </a:r>
            <a:br>
              <a:rPr sz="2400"/>
            </a:b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-THAT´S ENGLISH </a:t>
            </a:r>
            <a:br>
              <a:rPr sz="2400"/>
            </a:b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- TALLER DE ITALIA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920" y="3573000"/>
            <a:ext cx="835344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NIVELES, CURSOS Y CERTIFIC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Básico: 2 cursos - certificado Nivel Bás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Intermedio: 1 curso - certificado Nivel Interme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Avanzado: 2 cursos - certificado  Nivel Avanz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Los alumnos oficiales de NI y 2º NA tendrán pruebas de certif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idioma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907920"/>
            <a:ext cx="1228680" cy="113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C:\Documents and Settings\PC1\Configuración local\Archivos temporales de Internet\Content.IE5\WLU14DKB\MCj04154920000[1].wmf"/>
          <p:cNvPicPr/>
          <p:nvPr/>
        </p:nvPicPr>
        <p:blipFill>
          <a:blip r:embed="rId3"/>
          <a:stretch/>
        </p:blipFill>
        <p:spPr>
          <a:xfrm>
            <a:off x="826920" y="1268280"/>
            <a:ext cx="2016360" cy="1874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C:\Documents and Settings\PC1\Configuración local\Archivos temporales de Internet\Content.IE5\BYWNF58P\MCBD19969_0000[1].wmf"/>
          <p:cNvPicPr/>
          <p:nvPr/>
        </p:nvPicPr>
        <p:blipFill>
          <a:blip r:embed="rId4"/>
          <a:stretch/>
        </p:blipFill>
        <p:spPr>
          <a:xfrm>
            <a:off x="7215120" y="5143680"/>
            <a:ext cx="1928880" cy="171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thats_english"/>
          <p:cNvPicPr/>
          <p:nvPr/>
        </p:nvPicPr>
        <p:blipFill>
          <a:blip r:embed="rId5"/>
          <a:stretch/>
        </p:blipFill>
        <p:spPr>
          <a:xfrm>
            <a:off x="7020000" y="2133720"/>
            <a:ext cx="1376280" cy="660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bandera-italia"/>
          <p:cNvPicPr/>
          <p:nvPr/>
        </p:nvPicPr>
        <p:blipFill>
          <a:blip r:embed="rId6"/>
          <a:stretch/>
        </p:blipFill>
        <p:spPr>
          <a:xfrm>
            <a:off x="7020000" y="2924280"/>
            <a:ext cx="874800" cy="51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19 Rectángulo"/>
          <p:cNvSpPr/>
          <p:nvPr/>
        </p:nvSpPr>
        <p:spPr>
          <a:xfrm>
            <a:off x="324000" y="3284640"/>
            <a:ext cx="7343640" cy="1800000"/>
          </a:xfrm>
          <a:prstGeom prst="rect">
            <a:avLst/>
          </a:prstGeom>
          <a:solidFill>
            <a:srgbClr val="4f81bd"/>
          </a:solidFill>
          <a:ln w="42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95280" y="1699920"/>
            <a:ext cx="69134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Evaluación de diciembre: boletí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Examen preparatorio de febr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Examen final de jun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Convocatoria extraordinaria de septiem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sistencia/faltas: superar 30% de faltas supone pérdida  evaluación continua y permanecer escolarizado: faltas de menores justificadas por padres/tut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echas de exámenes no sujetas a camb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xámenes y evaluacion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2" descr="C:\Documents and Settings\PC1\Configuración local\Archivos temporales de Internet\Content.IE5\25QLEPWJ\MCj03981290000[1].wmf"/>
          <p:cNvPicPr/>
          <p:nvPr/>
        </p:nvPicPr>
        <p:blipFill>
          <a:blip r:embed="rId1"/>
          <a:stretch/>
        </p:blipFill>
        <p:spPr>
          <a:xfrm>
            <a:off x="6804000" y="1484280"/>
            <a:ext cx="1677960" cy="1812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C:\Documents and Settings\PC1\Configuración local\Archivos temporales de Internet\Content.IE5\2PSJWHG7\MCj03433510000[1].wmf"/>
          <p:cNvPicPr/>
          <p:nvPr/>
        </p:nvPicPr>
        <p:blipFill>
          <a:blip r:embed="rId2"/>
          <a:stretch/>
        </p:blipFill>
        <p:spPr>
          <a:xfrm>
            <a:off x="6877080" y="4221000"/>
            <a:ext cx="1743120" cy="16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PC1\Configuración local\Archivos temporales de Internet\Content.IE5\BYWNF58P\MCj02317800000[1].wmf"/>
          <p:cNvPicPr/>
          <p:nvPr/>
        </p:nvPicPr>
        <p:blipFill>
          <a:blip r:embed="rId1"/>
          <a:stretch/>
        </p:blipFill>
        <p:spPr>
          <a:xfrm>
            <a:off x="6348240" y="785880"/>
            <a:ext cx="2795760" cy="20001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Tipología de exáme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4 </a:t>
            </a:r>
            <a:r>
              <a:rPr b="0" lang="es-ES" sz="3200" spc="-1" strike="noStrike">
                <a:solidFill>
                  <a:srgbClr val="7f7f7f"/>
                </a:solidFill>
                <a:latin typeface="Calibri"/>
              </a:rPr>
              <a:t>destrezas: hablar, escribir, escuchar, le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Calificación por destreza: APTO / NO AP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APTO el examen: aprobando las 4 destrezas                      y superando el 60% de cada destre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-</a:t>
            </a: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 Tribunal para los alumnos de 2º NB, NI, 1º NA, 2º 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2 CuadroTexto"/>
          <p:cNvSpPr/>
          <p:nvPr/>
        </p:nvSpPr>
        <p:spPr>
          <a:xfrm>
            <a:off x="603720" y="428760"/>
            <a:ext cx="793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SCUELA OFICIAL DE IDIOMAS DE SAN R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4 CuadroTexto"/>
          <p:cNvSpPr/>
          <p:nvPr/>
        </p:nvSpPr>
        <p:spPr>
          <a:xfrm>
            <a:off x="642960" y="1857240"/>
            <a:ext cx="7929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7f7f7f"/>
                </a:solidFill>
                <a:latin typeface="Calibri"/>
              </a:rPr>
              <a:t>SECRETARÍ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- mañanas L-V: 10.00-13.00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                 </a:t>
            </a: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miércoles: 17.00-19.00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7f7f7f"/>
                </a:solidFill>
                <a:latin typeface="Calibri"/>
              </a:rPr>
              <a:t>DIRECCIÓN</a:t>
            </a: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: lunes 16.00 -18.00  y miércoles  12.00-13.00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7f7f7f"/>
                </a:solidFill>
                <a:latin typeface="Calibri"/>
              </a:rPr>
              <a:t>JEFATURA DE ESTUDI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martes 18.00-20.00 h y miércoles 13.00-14.00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7f7f7f"/>
                </a:solidFill>
                <a:latin typeface="Calibri"/>
              </a:rPr>
              <a:t>CLASES: </a:t>
            </a: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turnos de mañana (inglé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16.15-18-30 o 18-45-21.00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2 veces por semana (L y Mi / Ma y 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5 CuadroTexto"/>
          <p:cNvSpPr/>
          <p:nvPr/>
        </p:nvSpPr>
        <p:spPr>
          <a:xfrm>
            <a:off x="642960" y="1197000"/>
            <a:ext cx="671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ORARIOS ATENCIÓN AL ALUMN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Documents and Settings\PC1\Configuración local\Archivos temporales de Internet\Content.IE5\SNKFEN0Z\MCj04046610000[1].wmf"/>
          <p:cNvPicPr/>
          <p:nvPr/>
        </p:nvPicPr>
        <p:blipFill>
          <a:blip r:embed="rId1"/>
          <a:stretch/>
        </p:blipFill>
        <p:spPr>
          <a:xfrm>
            <a:off x="6804000" y="4365720"/>
            <a:ext cx="1841400" cy="15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Información tablon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f7f7f"/>
                </a:solidFill>
                <a:latin typeface="Calibri"/>
              </a:rPr>
              <a:t>El Alumno debe informarse a través de los tablones oficiales de la Escuel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f7f7f"/>
                </a:solidFill>
                <a:latin typeface="Calibri"/>
              </a:rPr>
              <a:t>Secretaría: plazos de matriculación, anulación de matricula, solicitud de títulos,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f7f7f"/>
                </a:solidFill>
                <a:latin typeface="Calibri"/>
              </a:rPr>
              <a:t>Departamentos: libros de texto 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f7f7f"/>
                </a:solidFill>
                <a:latin typeface="Calibri"/>
              </a:rPr>
              <a:t>Actividades Culturales y That’s Engl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f7f7f"/>
                </a:solidFill>
                <a:latin typeface="Calibri"/>
              </a:rPr>
              <a:t>Asociación de Alumn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f7f7f"/>
                </a:solidFill>
                <a:latin typeface="Calibri"/>
              </a:rPr>
              <a:t>Anuncios particulares y public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t0.gstatic.com/images?q=tbn:ANd9GcTT7XpBM_EcBsT6j0v5pXvsqJXHyRaVd-7mOl8MN2SJTfBBo3o&amp;t=1&amp;usg=__ifT_k9Fh6H2iEe0RUy5epnp8Oss="/>
          <p:cNvPicPr/>
          <p:nvPr/>
        </p:nvPicPr>
        <p:blipFill>
          <a:blip r:embed="rId1"/>
          <a:stretch/>
        </p:blipFill>
        <p:spPr>
          <a:xfrm>
            <a:off x="7715160" y="500040"/>
            <a:ext cx="117324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Tutorí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1844280"/>
            <a:ext cx="64008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98989"/>
                </a:solidFill>
                <a:latin typeface="Calibri"/>
              </a:rPr>
              <a:t>El alumnado podrá disponer de tutorías para ser informado de su proceso de aprendizaje durante el cur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98989"/>
                </a:solidFill>
                <a:latin typeface="Calibri"/>
              </a:rPr>
              <a:t>Las tutorías podrán ser fijadas por el profesor@ o solicitadas por el alumn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98989"/>
                </a:solidFill>
                <a:latin typeface="Calibri"/>
              </a:rPr>
              <a:t>El horario de tu tutoría es el siguiente: miércoles 16.1 5 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MC900279226[1]"/>
          <p:cNvPicPr/>
          <p:nvPr/>
        </p:nvPicPr>
        <p:blipFill>
          <a:blip r:embed="rId1"/>
          <a:stretch/>
        </p:blipFill>
        <p:spPr>
          <a:xfrm>
            <a:off x="7093080" y="260280"/>
            <a:ext cx="1520640" cy="18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rograma PAS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f7f7f"/>
                </a:solidFill>
                <a:latin typeface="Calibri"/>
              </a:rPr>
              <a:t>PASEN es un Servicio Integral de Atención a la Comunidad Educativa a través de Intern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f7f7f"/>
                </a:solidFill>
                <a:latin typeface="Calibri"/>
              </a:rPr>
              <a:t>Para información detallada visita </a:t>
            </a:r>
            <a:r>
              <a:rPr b="0" lang="es-E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juntadeandalucia.es/educacion/pasen/</a:t>
            </a:r>
            <a:r>
              <a:rPr b="0" lang="es-ES" sz="16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f7f7f"/>
                </a:solidFill>
                <a:latin typeface="Calibri"/>
              </a:rPr>
              <a:t>ACCEDER A PASEN para alumnos y profesores: Entrada como usua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f7f7f"/>
                </a:solidFill>
                <a:latin typeface="Calibri"/>
              </a:rPr>
              <a:t>Facilita al profesorado el seguimiento del alumnado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7f7f7f"/>
                </a:solidFill>
                <a:latin typeface="Calibri"/>
              </a:rPr>
              <a:t>* Mis alumnos y alum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7f7f7f"/>
                </a:solidFill>
                <a:latin typeface="Calibri"/>
              </a:rPr>
              <a:t>* Contro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7f7f7f"/>
                </a:solidFill>
                <a:latin typeface="Calibri"/>
              </a:rPr>
              <a:t>* Asignar trabajos y tare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7f7f7f"/>
                </a:solidFill>
                <a:latin typeface="Calibri"/>
              </a:rPr>
              <a:t>* Consultar las comunicaciones de ausenc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7f7f7f"/>
                </a:solidFill>
                <a:latin typeface="Calibri"/>
              </a:rPr>
              <a:t>* Enviar mensajes al alumnado  (e-mail o SM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</a:rPr>
              <a:t>A través de '</a:t>
            </a:r>
            <a:r>
              <a:rPr b="0" lang="es-E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asen</a:t>
            </a:r>
            <a:r>
              <a:rPr b="0" lang="es-ES" sz="1600" spc="-1" strike="noStrike">
                <a:solidFill>
                  <a:srgbClr val="7f7f7f"/>
                </a:solidFill>
                <a:latin typeface="Calibri"/>
              </a:rPr>
              <a:t>', los alumnos y tutores pueden saber en todo momento cuándo y sobre qué materias tienen exámenes, qué tareas tienen que hacer o cómo pedir una entrevista al profesor o comunicarle futuras ausencias del alum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7f7f7f"/>
                </a:solidFill>
                <a:uFillTx/>
                <a:latin typeface="Calibri"/>
              </a:rPr>
              <a:t>Fase de adaptación en enseñanza de régimen especi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Plataforma+S%C3%A9neca-Pasen"/>
          <p:cNvPicPr/>
          <p:nvPr/>
        </p:nvPicPr>
        <p:blipFill>
          <a:blip r:embed="rId3"/>
          <a:stretch/>
        </p:blipFill>
        <p:spPr>
          <a:xfrm>
            <a:off x="6012000" y="189000"/>
            <a:ext cx="2633400" cy="14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pto. Francés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1125360"/>
            <a:ext cx="65851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Lib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Lectora: Noémi Laws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3110040" y="2346120"/>
            <a:ext cx="2923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1800" y="44924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l_fi" descr="http://www.auplaisirdeslangues.fr/images/HACHalterego1.jpg"/>
          <p:cNvPicPr/>
          <p:nvPr/>
        </p:nvPicPr>
        <p:blipFill>
          <a:blip r:embed="rId1"/>
          <a:stretch/>
        </p:blipFill>
        <p:spPr>
          <a:xfrm>
            <a:off x="1692360" y="1700280"/>
            <a:ext cx="1619280" cy="2019240"/>
          </a:xfrm>
          <a:prstGeom prst="rect">
            <a:avLst/>
          </a:prstGeom>
          <a:ln w="0">
            <a:noFill/>
          </a:ln>
        </p:spPr>
      </p:pic>
      <p:pic>
        <p:nvPicPr>
          <p:cNvPr id="86" name="il_fi" descr="http://www.internationalbooks.ie/mcart/pc/catalog/9782011554420.jpg"/>
          <p:cNvPicPr/>
          <p:nvPr/>
        </p:nvPicPr>
        <p:blipFill>
          <a:blip r:embed="rId2"/>
          <a:stretch/>
        </p:blipFill>
        <p:spPr>
          <a:xfrm>
            <a:off x="3924360" y="1700280"/>
            <a:ext cx="1476360" cy="1971720"/>
          </a:xfrm>
          <a:prstGeom prst="rect">
            <a:avLst/>
          </a:prstGeom>
          <a:ln w="0">
            <a:noFill/>
          </a:ln>
        </p:spPr>
      </p:pic>
      <p:pic>
        <p:nvPicPr>
          <p:cNvPr id="87" name="il_fi" descr="http://www.eiffel-livres.com/images/alter_ego.jpg"/>
          <p:cNvPicPr/>
          <p:nvPr/>
        </p:nvPicPr>
        <p:blipFill>
          <a:blip r:embed="rId3"/>
          <a:stretch/>
        </p:blipFill>
        <p:spPr>
          <a:xfrm>
            <a:off x="5867280" y="1700280"/>
            <a:ext cx="1667160" cy="2066760"/>
          </a:xfrm>
          <a:prstGeom prst="rect">
            <a:avLst/>
          </a:prstGeom>
          <a:ln w="0">
            <a:noFill/>
          </a:ln>
        </p:spPr>
      </p:pic>
      <p:pic>
        <p:nvPicPr>
          <p:cNvPr id="88" name="il_fi" descr="http://www.grantandcutler.com/images/jackets/9782278058297.jpg"/>
          <p:cNvPicPr/>
          <p:nvPr/>
        </p:nvPicPr>
        <p:blipFill>
          <a:blip r:embed="rId4"/>
          <a:stretch/>
        </p:blipFill>
        <p:spPr>
          <a:xfrm>
            <a:off x="3924360" y="3933720"/>
            <a:ext cx="1511280" cy="1798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rry</dc:creator>
  <dc:description/>
  <dc:language>en-US</dc:language>
  <cp:lastModifiedBy>Nicolas</cp:lastModifiedBy>
  <dcterms:modified xsi:type="dcterms:W3CDTF">2010-09-15T19:01:04Z</dcterms:modified>
  <cp:revision>144</cp:revision>
  <dc:subject/>
  <dc:title>Diapositiva 1</dc:title>
</cp:coreProperties>
</file>